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2FAFA-C8EE-4142-AA1D-066FEE3595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8C81C-965A-4A89-9F78-434BE902EE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2D842-381E-4088-A08F-5E0DF10434F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870E-8E50-43CB-8886-BB598C5DC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FA1C-0969-4304-BEA0-FFEFB7AA7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B0FA-25DF-4FF1-9488-D26401412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DA5C-B113-465F-AD04-9163D5700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A7F13-5D8A-46B8-8FF1-CFC65A90A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A0D6F-72A9-4C64-9654-28B703EAC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DBC34-0678-4E50-A156-7EF51EFD9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1FCDD-96AC-40DA-BD0A-63D7EC2AC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C4429-EB0A-46F5-AA72-20A972E27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62DC1-8EDB-488A-B68D-526453328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94748-0824-468E-8CB6-43332918A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7BAD-8025-437E-AFF1-ABF35796B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15B48-ED03-4B8F-8CE1-2D0E8ECB5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19DE8-A66E-4A88-BBFD-CEBFEA766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ADD19-88DF-4809-A74B-8AD545D28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33382-0895-4BCA-A5AB-D8BD0D045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0F88F-BF95-4D82-881E-085D35799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DC73-ACD1-4AC2-8B86-5E81E0A60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7401-0A7A-4B34-953A-21BE8EFEF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4C7A-2E5D-47C6-9500-3C7D12C32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ABF9-76EF-4E5A-BB79-C47049B5D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FF7F-1B3A-434F-A172-8C06BCDFF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9562-B78F-494E-97F2-0D9116DD5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9C73-1383-4205-8B3C-3132A5EDF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4BA24-DF5F-487F-993C-8B4DE4438B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CC68F-CA77-439C-9090-DB999EE270F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Evolution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Trends of Natural Selec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Genetic Drif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small populations, individuals that carry a particular allele may leave more descendants than other individuals, just by chance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ver time, a series of chance occurrences of this type can cause an allele to become common in a popul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ite fur bunni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peciatio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55627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Reproductive Isola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- The evolutionary process by which new biological species ari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4" name="Content Placeholder 3" descr="eevee.jpg"/>
          <p:cNvPicPr/>
          <p:nvPr/>
        </p:nvPicPr>
        <p:blipFill>
          <a:blip r:embed="rId1"/>
          <a:stretch/>
        </p:blipFill>
        <p:spPr>
          <a:xfrm>
            <a:off x="4724280" y="2665440"/>
            <a:ext cx="4165560" cy="41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9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Types of Isolatio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Behavioral Isola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Two populations capable of interbreeding but have differences in courtship rituals or other types of behavio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Geographic Isola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Populations are separated by geographic barriers such as rivers, mountains, or bodies of wat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emporal Isola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Species reproduce at different times of the ye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Galapagos Finch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724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eciation in the Galapagos Finches occurred by founding of new populations, geographic isolation, gene pool changes, reproductive isolation, and ecological competi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9" name="Content Placeholder 3" descr="darwin_finches.jpg"/>
          <p:cNvPicPr/>
          <p:nvPr/>
        </p:nvPicPr>
        <p:blipFill>
          <a:blip r:embed="rId1"/>
          <a:stretch/>
        </p:blipFill>
        <p:spPr>
          <a:xfrm>
            <a:off x="4681440" y="1828800"/>
            <a:ext cx="44625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Coevolutio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two species influence each others evolu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es and flowe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ppos and the fish that clean their teeth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mo and his annenome ho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r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5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5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" dur="5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7" dur="2000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Microevolutio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changes in allele frequencies that occur over time within a popul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cuses on the very small chang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Macroevolutio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nge that occurs at or above the level of speci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big chang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Evolutio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0" y="1295280"/>
            <a:ext cx="75438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Genetic changes in a population through ti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Occurs through </a:t>
            </a:r>
            <a:r>
              <a:rPr b="1" i="1" lang="en-US" sz="3200" spc="-1" strike="noStrike">
                <a:solidFill>
                  <a:srgbClr val="ffcc66"/>
                </a:solidFill>
                <a:latin typeface="Tahoma"/>
              </a:rPr>
              <a:t>natural sele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67" name="Group 23"/>
          <p:cNvGrpSpPr/>
          <p:nvPr/>
        </p:nvGrpSpPr>
        <p:grpSpPr>
          <a:xfrm>
            <a:off x="2728800" y="2911320"/>
            <a:ext cx="3625920" cy="734400"/>
            <a:chOff x="2728800" y="2911320"/>
            <a:chExt cx="3625920" cy="734400"/>
          </a:xfrm>
        </p:grpSpPr>
        <p:sp>
          <p:nvSpPr>
            <p:cNvPr id="168" name="Text Box 4"/>
            <p:cNvSpPr/>
            <p:nvPr/>
          </p:nvSpPr>
          <p:spPr>
            <a:xfrm>
              <a:off x="2728800" y="3186000"/>
              <a:ext cx="318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Overproduction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69" name="Group 13"/>
            <p:cNvGrpSpPr/>
            <p:nvPr/>
          </p:nvGrpSpPr>
          <p:grpSpPr>
            <a:xfrm>
              <a:off x="5897520" y="2911320"/>
              <a:ext cx="457200" cy="595440"/>
              <a:chOff x="5897520" y="2911320"/>
              <a:chExt cx="457200" cy="595440"/>
            </a:xfrm>
          </p:grpSpPr>
          <p:sp>
            <p:nvSpPr>
              <p:cNvPr id="170" name="Line 11"/>
              <p:cNvSpPr/>
              <p:nvPr/>
            </p:nvSpPr>
            <p:spPr>
              <a:xfrm>
                <a:off x="6354720" y="2911320"/>
                <a:ext cx="0" cy="59544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1" name="Line 12"/>
              <p:cNvSpPr/>
              <p:nvPr/>
            </p:nvSpPr>
            <p:spPr>
              <a:xfrm flipH="1">
                <a:off x="5897520" y="3489480"/>
                <a:ext cx="45720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172" name="Group 24"/>
          <p:cNvGrpSpPr/>
          <p:nvPr/>
        </p:nvGrpSpPr>
        <p:grpSpPr>
          <a:xfrm>
            <a:off x="2728800" y="3489480"/>
            <a:ext cx="3625920" cy="1069200"/>
            <a:chOff x="2728800" y="3489480"/>
            <a:chExt cx="3625920" cy="1069200"/>
          </a:xfrm>
        </p:grpSpPr>
        <p:sp>
          <p:nvSpPr>
            <p:cNvPr id="173" name="Text Box 5"/>
            <p:cNvSpPr/>
            <p:nvPr/>
          </p:nvSpPr>
          <p:spPr>
            <a:xfrm>
              <a:off x="2728800" y="4098960"/>
              <a:ext cx="318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Variation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74" name="Group 14"/>
            <p:cNvGrpSpPr/>
            <p:nvPr/>
          </p:nvGrpSpPr>
          <p:grpSpPr>
            <a:xfrm>
              <a:off x="5897520" y="3489480"/>
              <a:ext cx="457200" cy="945720"/>
              <a:chOff x="5897520" y="3489480"/>
              <a:chExt cx="457200" cy="945720"/>
            </a:xfrm>
          </p:grpSpPr>
          <p:sp>
            <p:nvSpPr>
              <p:cNvPr id="175" name="Line 15"/>
              <p:cNvSpPr/>
              <p:nvPr/>
            </p:nvSpPr>
            <p:spPr>
              <a:xfrm>
                <a:off x="6354720" y="3489480"/>
                <a:ext cx="0" cy="94572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6" name="Line 16"/>
              <p:cNvSpPr/>
              <p:nvPr/>
            </p:nvSpPr>
            <p:spPr>
              <a:xfrm flipH="1">
                <a:off x="5897520" y="4407840"/>
                <a:ext cx="45720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177" name="Group 25"/>
          <p:cNvGrpSpPr/>
          <p:nvPr/>
        </p:nvGrpSpPr>
        <p:grpSpPr>
          <a:xfrm>
            <a:off x="1676520" y="4419720"/>
            <a:ext cx="4678200" cy="1070640"/>
            <a:chOff x="1676520" y="4419720"/>
            <a:chExt cx="4678200" cy="1070640"/>
          </a:xfrm>
        </p:grpSpPr>
        <p:sp>
          <p:nvSpPr>
            <p:cNvPr id="178" name="Text Box 6"/>
            <p:cNvSpPr/>
            <p:nvPr/>
          </p:nvSpPr>
          <p:spPr>
            <a:xfrm>
              <a:off x="1676520" y="5030640"/>
              <a:ext cx="423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Struggle for existence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79" name="Group 17"/>
            <p:cNvGrpSpPr/>
            <p:nvPr/>
          </p:nvGrpSpPr>
          <p:grpSpPr>
            <a:xfrm>
              <a:off x="5897520" y="4419720"/>
              <a:ext cx="457200" cy="915480"/>
              <a:chOff x="5897520" y="4419720"/>
              <a:chExt cx="457200" cy="915480"/>
            </a:xfrm>
          </p:grpSpPr>
          <p:sp>
            <p:nvSpPr>
              <p:cNvPr id="180" name="Line 18"/>
              <p:cNvSpPr/>
              <p:nvPr/>
            </p:nvSpPr>
            <p:spPr>
              <a:xfrm>
                <a:off x="6354720" y="4419720"/>
                <a:ext cx="0" cy="91548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1" name="Line 19"/>
              <p:cNvSpPr/>
              <p:nvPr/>
            </p:nvSpPr>
            <p:spPr>
              <a:xfrm flipH="1">
                <a:off x="5897520" y="5308560"/>
                <a:ext cx="45720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182" name="Group 26"/>
          <p:cNvGrpSpPr/>
          <p:nvPr/>
        </p:nvGrpSpPr>
        <p:grpSpPr>
          <a:xfrm>
            <a:off x="0" y="5319720"/>
            <a:ext cx="6354720" cy="1127880"/>
            <a:chOff x="0" y="5319720"/>
            <a:chExt cx="6354720" cy="1127880"/>
          </a:xfrm>
        </p:grpSpPr>
        <p:sp>
          <p:nvSpPr>
            <p:cNvPr id="183" name="Text Box 7"/>
            <p:cNvSpPr/>
            <p:nvPr/>
          </p:nvSpPr>
          <p:spPr>
            <a:xfrm>
              <a:off x="0" y="5987880"/>
              <a:ext cx="591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Differential reproductive success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84" name="Group 20"/>
            <p:cNvGrpSpPr/>
            <p:nvPr/>
          </p:nvGrpSpPr>
          <p:grpSpPr>
            <a:xfrm>
              <a:off x="5897520" y="5319720"/>
              <a:ext cx="457200" cy="1007640"/>
              <a:chOff x="5897520" y="5319720"/>
              <a:chExt cx="457200" cy="1007640"/>
            </a:xfrm>
          </p:grpSpPr>
          <p:sp>
            <p:nvSpPr>
              <p:cNvPr id="185" name="Line 21"/>
              <p:cNvSpPr/>
              <p:nvPr/>
            </p:nvSpPr>
            <p:spPr>
              <a:xfrm>
                <a:off x="6354720" y="5319720"/>
                <a:ext cx="0" cy="100764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6" name="Line 22"/>
              <p:cNvSpPr/>
              <p:nvPr/>
            </p:nvSpPr>
            <p:spPr>
              <a:xfrm flipH="1">
                <a:off x="5897520" y="6298200"/>
                <a:ext cx="45720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ources of Variatio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wo main sources are mutations and gene shuffl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Mutati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changes in DNA sequence.  These may or may not affect an organisms fitnes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Gene shuffling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is the random shuffling of genes caused by sexual reproduc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Natural Selection on Single-Gene Trait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ariations on single-gene traits can lead to changes in allele frequencies and thus to evolu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the change is beneficial to the organism, the change may cause the original form to fade out and the newer organisms to be more fit and take ov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irectional Selectio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Directional Select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Evolution causes an increase in the number of individuals with the trait at one end of the curv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3" name="Picture 7" descr="C21_Directional_1"/>
          <p:cNvPicPr/>
          <p:nvPr/>
        </p:nvPicPr>
        <p:blipFill>
          <a:blip r:embed="rId1"/>
          <a:stretch/>
        </p:blipFill>
        <p:spPr>
          <a:xfrm>
            <a:off x="4648320" y="1843200"/>
            <a:ext cx="4038480" cy="40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tabilizing Selectio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dividuals in the center of the curve and more fit and thus the curve narrow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6" name="Picture 6" descr="C21_Stabilizing_1"/>
          <p:cNvPicPr/>
          <p:nvPr/>
        </p:nvPicPr>
        <p:blipFill>
          <a:blip r:embed="rId1"/>
          <a:stretch/>
        </p:blipFill>
        <p:spPr>
          <a:xfrm>
            <a:off x="4648320" y="1843200"/>
            <a:ext cx="4038480" cy="40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isruptive Selectio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dividuals at the ends of the curve are more fit than the ones in the middle causing two curves to form and possible new species to for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would happen if the spiny cacti mutated to now have vines that kill spineless cacti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Picture 6" descr="C21_Disruptive_1"/>
          <p:cNvPicPr/>
          <p:nvPr/>
        </p:nvPicPr>
        <p:blipFill>
          <a:blip r:embed="rId1"/>
          <a:stretch/>
        </p:blipFill>
        <p:spPr>
          <a:xfrm>
            <a:off x="4648320" y="1843200"/>
            <a:ext cx="4038480" cy="40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2T11:41:40Z</dcterms:created>
  <dc:creator> </dc:creator>
  <dc:description/>
  <dc:language>en-US</dc:language>
  <cp:lastModifiedBy>ramalhod</cp:lastModifiedBy>
  <dcterms:modified xsi:type="dcterms:W3CDTF">2012-10-02T11:32:43Z</dcterms:modified>
  <cp:revision>20</cp:revision>
  <dc:subject/>
  <dc:title>Evolution</dc:title>
</cp:coreProperties>
</file>